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56C-13E5-4E36-831E-49068D488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E234-9178-401E-B98B-E09A808B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F578-7617-49C0-9440-688621210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5F87-39B7-4D82-A21F-960CCC1A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DBF-C44D-49B5-BE21-78908A28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4B4-E38D-4A15-BC08-D029B557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463-1380-47AC-A791-57ED9C52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951-3CAC-4CFB-8A6C-E8CB6114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858-01C0-4C2F-89EC-9332EA2A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5FA-EC62-45F6-9A6A-0D5BAC9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0B52-11E6-4ED8-9BA5-90213035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EF21-A4AE-4881-8926-BF510B65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278B-130A-4047-8A39-9A1377EBF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achievethecore.org/page/33/words-we-live-by-your-annotated-guide-to-the-constitution-by-linda-r-monk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achievethecore.org/page/33/words-we-live-by-your-annotated-guide-to-the-constitution-by-linda-r-monk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870360" y="220968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MC900435240[1]"/>
          <p:cNvPicPr/>
          <p:nvPr/>
        </p:nvPicPr>
        <p:blipFill>
          <a:blip r:embed="rId1"/>
          <a:stretch/>
        </p:blipFill>
        <p:spPr>
          <a:xfrm>
            <a:off x="609480" y="228600"/>
            <a:ext cx="2854440" cy="32767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8"/>
          <p:cNvSpPr/>
          <p:nvPr/>
        </p:nvSpPr>
        <p:spPr>
          <a:xfrm>
            <a:off x="685800" y="1371600"/>
            <a:ext cx="84582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ACTFL’s                    Alignment of the NATIONAL STANDARDS for Learning Languages with the COMMON CORE             State Standar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ject 2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172200" cy="6089400"/>
          </a:xfrm>
          <a:prstGeom prst="rect">
            <a:avLst/>
          </a:prstGeom>
          <a:ln w="0">
            <a:noFill/>
          </a:ln>
        </p:spPr>
      </p:pic>
      <p:sp>
        <p:nvSpPr>
          <p:cNvPr id="59" name="TextBox 5"/>
          <p:cNvSpPr/>
          <p:nvPr/>
        </p:nvSpPr>
        <p:spPr>
          <a:xfrm rot="20861400">
            <a:off x="1404720" y="297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ltiple Reading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ilent and/or a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6095880" y="4267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"/>
          <p:cNvSpPr/>
          <p:nvPr/>
        </p:nvSpPr>
        <p:spPr>
          <a:xfrm rot="1110000">
            <a:off x="5816160" y="403380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dentify Acade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8"/>
          <p:cNvSpPr/>
          <p:nvPr/>
        </p:nvSpPr>
        <p:spPr>
          <a:xfrm>
            <a:off x="2971800" y="9907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2743200" y="79056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2743200" y="1143000"/>
            <a:ext cx="15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2666880" y="1649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838080" y="60199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da R. Monk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ords We Live By: Your Annotated Guide to the Constit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Grad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ing Main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letters to paragraphs:  have student match main ideas of paragraphs to the appropriate para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purpose and/or target audience of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mmarize paragraph or sentences in own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rr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23880"/>
            <a:ext cx="82296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rive meaning from text not st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.  Who are the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the peopl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87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 higher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 rot="378600">
            <a:off x="4419720" y="320040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pplying supporting evidence or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57200" y="19810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In paragraph 3, what evidence is in this paragraph to support Marshal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claim about the evolving nature of the constit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lyzing the development of the tex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528840" y="2209680"/>
            <a:ext cx="760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does the author develop the argument that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itution is a living, evolving docu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as quoting this particular justice of the Suprem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t effective in promoting the author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 discuss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the people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rive meaning of words/structures from con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636840" y="2133720"/>
            <a:ext cx="8379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s in paragraph 1 help to understan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eaning of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 sovereignt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the examples listed in the last paragraph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the word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ffrag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line 3, to whom or to what does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f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effect of the repetition of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th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cogn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799920" y="1981080"/>
            <a:ext cx="831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 or words in paragraph 2 would be 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nonym for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ered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word(s) in Marshall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quote refer to someon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established or started something n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grate and evaluate content from diverse media &amp;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19120" y="2286000"/>
            <a:ext cx="823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how the notion of who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e people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d over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do we need a Bill of Righ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creen Shot 2013-10-24 at 7.36.15 PM.pn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Screen Shot 2013-10-24 at 7.36.48 PM.pn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Object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3124080"/>
            <a:ext cx="8053560" cy="1733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aluate the claims and arguments of th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533520" y="5486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chievethecore.org/page/33/words-we-live-by-your-annotated-guide-to-the-constitution-by-linda-r-mo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54000" y="0"/>
            <a:ext cx="925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7520" y="379440"/>
            <a:ext cx="93837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at are the shifts in World Languages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74760" y="1413000"/>
            <a:ext cx="8532720" cy="14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hallenging texts:  </a:t>
            </a:r>
            <a:r>
              <a:rPr b="0" lang="ja-JP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</a:t>
            </a:r>
            <a:r>
              <a:rPr b="0" lang="ja-JP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xts (created for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ive speakers) are a rich source of current language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457200" y="2819520"/>
            <a:ext cx="838188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ach reading comprehension strategies--how to dig into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ext and read to find deeper mean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57200" y="3733920"/>
            <a:ext cx="868680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writing and speaking tasks that require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students to evaluate and integrate evidence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gleaned from multiple sources (audio, video, &amp; print medi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" y="5181480"/>
            <a:ext cx="8858160" cy="13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50760" bIns="5076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MT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written and oral tasks that require students to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dvance an argument (persuasion) or explain or shed</a:t>
            </a: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light on a topic (explanator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CC Reading Task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076960" cy="441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Main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ly supporting details o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ze development of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 meaning of words/structures from context &amp; prior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ine relationship of paragraphs/sentences to each other in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MC900435240[1]"/>
          <p:cNvPicPr/>
          <p:nvPr/>
        </p:nvPicPr>
        <p:blipFill>
          <a:blip r:embed="rId1"/>
          <a:stretch/>
        </p:blipFill>
        <p:spPr>
          <a:xfrm>
            <a:off x="152280" y="304920"/>
            <a:ext cx="19227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8"/>
          <p:cNvSpPr/>
          <p:nvPr/>
        </p:nvSpPr>
        <p:spPr>
          <a:xfrm>
            <a:off x="728640" y="914400"/>
            <a:ext cx="7543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of point of view on content &amp; style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y cog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and evaluate content from diverse media and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aluate the claims and arguments of th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re two or more texts on same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successfully 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21:52:42Z</dcterms:created>
  <dc:creator>elaine</dc:creator>
  <dc:description/>
  <dc:language>en-US</dc:language>
  <cp:lastModifiedBy>Jenine Nowakowski</cp:lastModifiedBy>
  <dcterms:modified xsi:type="dcterms:W3CDTF">2016-01-27T16:01:40Z</dcterms:modified>
  <cp:revision>95</cp:revision>
  <dc:subject/>
  <dc:title>Slide 1</dc:title>
</cp:coreProperties>
</file>